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72D-40AF-4950-B94E-707A15C5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5F9-E230-44C8-832F-36CDBE62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DE4-D7E3-4EB7-84BF-F7EB4C56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7EB-3047-4E23-A777-48C9AE3E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846-6349-4EE3-8020-6CD094E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A3E-45A9-4467-8E3A-97E57E0B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3DE-878C-455D-BF46-A7EF9F98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0D8-3E5C-4136-A49C-D80B60D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151-6F79-45A6-83F6-8012F8FF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36F-4651-4A10-8AF8-67D6759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CDB-CEE2-4371-A28C-F628E24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719-701D-4CFC-BE1F-9E3DFAE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B28-E8FB-4AB8-A4AE-01100A49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sta.cira.colostate.edu/tss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vista.cira.colostate.edu/views/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coha.dri.edu/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rapedms.org/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wrapfets.org/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pah.cert.ucr.edu/aqm/308/" TargetMode="Externa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ooreT@cira.colostate.edu" TargetMode="External"/><Relationship Id="rId2" Type="http://schemas.openxmlformats.org/officeDocument/2006/relationships/hyperlink" Target="mailto:McClure@cira.colostate.edu" TargetMode="External"/><Relationship Id="rId3" Type="http://schemas.openxmlformats.org/officeDocument/2006/relationships/hyperlink" Target="mailto:JAdlhoch@air-resource.com" TargetMode="External"/><Relationship Id="rId4" Type="http://schemas.openxmlformats.org/officeDocument/2006/relationships/hyperlink" Target="mailto:gmansell@environcorp.com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sta.cira.colostate.edu/TSS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AP Technical Support System for Air Quality Planning, Tracking, &amp;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Moore | Western Governors’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wn McClure | Cooperative Institute for Research in the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343400" cy="76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95520" y="5181480"/>
            <a:ext cx="2395800" cy="515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isibility Information Exchange Web System (VIEW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auses of Haze (COHA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71880" y="601992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Emissions Data Management System (EDMS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WRAP Fire Emissions Tracking System (FETS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95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Regional Modeling Center (RMC)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6880" y="6019920"/>
            <a:ext cx="952200" cy="71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4800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ember 6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S Development (How? &amp; Wh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68320"/>
            <a:ext cx="3886200" cy="46054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ado State University – Cooperative Institute for Research in the Atmosphere (CI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ctor for operations/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ol design/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 Emissions Tracking System (FETS) – Air Sciences, Inc. as subcontr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ibility Information Exchange Web System (VIEWS) – collocated with IMPROVE at NPS-C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762120"/>
            <a:ext cx="4419720" cy="47635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 Resource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ENVIRON as subcontr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analysis, design, training, &amp; cont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 support for interpretation of monitoring, emissions, source apportionment, and modeling results for haze planning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te feeder data support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issions Data Management System (ED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AP Regional Modeling Center (RM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es of Haze Assessment (CoHA)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6338880"/>
            <a:ext cx="7467480" cy="3682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ion &amp; management by WRAP Forums/Workgroups an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486400"/>
            <a:ext cx="685800" cy="838080"/>
          </a:xfrm>
          <a:prstGeom prst="downArrowCallout">
            <a:avLst>
              <a:gd name="adj1" fmla="val 25002"/>
              <a:gd name="adj2" fmla="val 25000"/>
              <a:gd name="adj3" fmla="val 20367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5562720"/>
            <a:ext cx="609840" cy="761760"/>
          </a:xfrm>
          <a:prstGeom prst="downArrowCallout">
            <a:avLst>
              <a:gd name="adj1" fmla="val 25002"/>
              <a:gd name="adj2" fmla="val 25000"/>
              <a:gd name="adj3" fmla="val 20819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666880"/>
            <a:ext cx="53352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(2007-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of planning data &amp; results for western haz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ement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and approval by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data update cycle to track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ic source apportionment, modeling, and control strategy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of 60-year RHR program – states set goals, EPA partners with states to verif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ion control to make TSS data us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plans for T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 (2009 and onw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 of visibility progress/tracking data &amp; analysis results for western haz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to support one-atmosphere air quality planning and regional contro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haze pla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al contribution analyses and results for Ozone and PM NAAQS issues, supporting state and local plann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es of mercury and nitroge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annual data update cycle to track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odic source apportionment, modeling, &amp; control strategy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of additional data (satellite, control costs, changes in energy supply, et ce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version control to make TSS data use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of WRAP Committees, Forums, and Workgroups, as well as members of additional organizations not currently active in the regional haze effort will me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strengths and weaknesses of existing data and analysis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uses and limitations of those data and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coordination efforts needed with ongoing and planned State/Tribal/Federal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iming, effort, activities, and any needed changes in future projects by WRAP con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results for work planning purposes &amp;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 Data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April will address monitoring methods, network operations, and data analysis activities for Ozone, PM, haze, mercury, and N deposi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issions &amp; Modeling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July will address emissions and modeling studies related to Ozone, PM, haze, mercury, and 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Data Needs for Air Quality Plann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September will bring forward technical data and analysis capabilities from the earlier workshops to address 2009-12 air quality control and management planning needs for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ze plan implementation – how/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ining data, studies, &amp; results needed for air quality planning - ozone, PM, mercury, N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AP 2009-12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, report, and conduct needed analyses of progress for regional ha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regional contributions to Ozone and PM health and welfare standards’ nonattainment issues at various sc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tand and analyze the nature and causes of mercury, and nitrogen deposition/critical loads in the Wes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air quality changes from emissions management strategies and program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cert with emerging efforts to manage and adapt to climate change, fully integrate data for both energy supply and use as well as greenhouse gas emissions into air quality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s &amp;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 with efforts by states/EPA/other federal agen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there obvious functional limitations of the TSS or specific “smart” ideas that EPA would like the WRAP to consider for future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Mo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– Air Quality Program Manager, W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ooreT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wn McC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A – Software Engineer, Research Associat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4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cClure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Adl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Resource Specialists – Vice President/Projec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84.7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JAdlhoch@air-resource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ry Man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 - Senior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415.899.0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mansell@environcorp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57200" y="762120"/>
          <a:ext cx="8229600" cy="57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2296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 Im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bas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0" b="26502"/>
          <a:stretch/>
        </p:blipFill>
        <p:spPr>
          <a:xfrm>
            <a:off x="152280" y="53352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5105520"/>
            <a:ext cx="27432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back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 relational and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data import, validation,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105520"/>
            <a:ext cx="27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 Generation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data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normalizes and transform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data into the 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table ind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s “snapshots” of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VB, 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105520"/>
            <a:ext cx="281952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front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a de-normalized “star sch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querying and arch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ally generated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98000" y="6438960"/>
            <a:ext cx="54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228600" bIns="228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9100-737A-47E8-9B43-8D9FB7EF62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WRAP work 1997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enc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9 Haze SIPs submitted 1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 to distill key information for haze planning across wide variety of air programs in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 Forums and Workgroups - Too many individuals to lis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ribution of Haze – Steve Arnold (CO) &amp; Bob Kotchenruther (EPA-R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&amp; Planning – Tina Anderson (WY) &amp; Mike Edwards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ing – John Vimont (NPS), Mary Uhl (NM), Kevin Briggs (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 &amp; Data Analysis – Marc Pitchford (NO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s involved – feds, tribes, states, industry, env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S Development Team – Shawn McClure (CIRA), Joe Adlhoch (Air Resource Specialists), Gerry Mansell (ENVIRON) &amp;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A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-kind staff work from many agencies &amp; organizations - 1,000s of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pose of talk is to report out progress to date and plans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33520" y="685800"/>
          <a:ext cx="800712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85800"/>
                    <a:ext cx="80071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6172200"/>
            <a:ext cx="2362320" cy="368280"/>
          </a:xfrm>
          <a:prstGeom prst="rect">
            <a:avLst/>
          </a:prstGeom>
          <a:solidFill>
            <a:srgbClr val="d9ede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: 11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Pag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RAP TSS permits integration of monitoring, emissions, source apportionment, and modeling results for current and future air quality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data, outputs,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es the TSS exist?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makes it different from from other “web-based data system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be a true decision support system addressing regulatory requirements of Regional Haze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s comprehensive and consistent regional data and analysis results to planners for each Class I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information required for regional haze planning, as defined by air quality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multiple datasets from regional analyses (monitoring, emissions, source apportionment, modeling) into displays and formats suitable for air qualit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documentation and summary explanations of techn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re derived from projects and data support systems developed by WRA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T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vista.cira.colostate.edu/TS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support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regional haze planning in the West, expandable to other air quality indicators and/or to additional geograph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provides analytical results from data support systems and display tools for regional haze implementation plans (to improve visibility for the 118 Class I areas in the WRAP reg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 is a one-stop-shop for access, visualization, analysis, and retrieval of the technical data and regional analytical results - consolidating information about air quality monitoring, emissions inventories and models, source apportionment results, and gridded air quality/visibility regional modeling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066680" y="685800"/>
          <a:ext cx="694224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85800"/>
                    <a:ext cx="6942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Air Quality Data and Deci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76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S / TSS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876920"/>
            <a:ext cx="2133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pporti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3880"/>
          <a:ext cx="8686800" cy="30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97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ed System Solution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434960"/>
            <a:ext cx="822960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mprehensive comparison and analysis of monitored, modeled, and emissions data with an integrated suit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and expand decision suppor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oviders to upload manage their own data &amp;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an open, extensible, service-oriente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rvices, components, and tools to air quality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satellite and meteorolog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climate change and epidemiological applications and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ollaboration and development betwee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858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Develop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Future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6:34:42Z</dcterms:created>
  <dc:creator>Tom Moore</dc:creator>
  <dc:description/>
  <dc:language>en-US</dc:language>
  <cp:lastModifiedBy>rscheffe</cp:lastModifiedBy>
  <dcterms:modified xsi:type="dcterms:W3CDTF">2008-01-14T19:00:39Z</dcterms:modified>
  <cp:revision>26</cp:revision>
  <dc:subject/>
  <dc:title>WRAP Technical Support System for Air Quality Planning, Tracking, &amp; Decision Support</dc:title>
</cp:coreProperties>
</file>